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712F-E307-4AA4-8A1A-659B4474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0CD3-B1FA-449C-8F21-AD1DE014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6A2320-3F5F-494D-9BA9-33A92A48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7BF4EA-DE78-4DD8-BD51-90D1293F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D0F58E-A90D-4D07-AED4-17E3CA0D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F79442-2E1B-4BA2-A728-54024CE3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4D3844-3002-4D95-BC27-4CF98BD3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DDF128-B835-4789-89EC-FAFC0AE1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58480E-B294-4DC2-9CF1-4168D5B8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9B7D2B-51FF-4CDD-8CDD-57173985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CFEC8E-285F-4E8E-AAD0-C674C76A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23FD1C-C62B-423E-B22C-8F244000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2DE4-68A9-4818-9D28-F70B2B29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057239-2E79-499D-9FB0-29D47F20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3DD40D-8A20-401B-892D-C602DD27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E4D60D-EC9B-4BED-A035-B383569C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7959D7-304A-4F4D-929B-195FAA64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597ADE-F4EF-4635-A2C6-EB1E4728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58D454-E5DC-4CC0-9D30-835B9589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2B195B-0EB3-48A5-B7BD-5B099888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DA49EB-FC49-4397-BE3C-FF57AE24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4B1255-624A-409A-911B-D6839B41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683978-D734-4B70-98FD-67C074C8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22E6-8395-4DF1-A0CF-D771CDF9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17FD94-5643-4759-A9E8-6834EE8D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43B9C-3CAB-4D0F-807E-E73AF542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E5178-1940-409D-A495-FEF88B4E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0AAC3-D406-4020-BFE8-88B12ACA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CEE5F-D42F-44D2-9FDC-FCC92F2E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ABDB0-B752-4AF8-A8CE-59E12EF3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F60B0-C195-4457-83F5-6663232E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A73CB-E0E3-4C35-8A74-830AB5B0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3BA83-3367-4A9D-9141-6453D23D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3E8B6-C73B-42FD-9524-C88337F8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AA9B-A3AD-4003-A6D2-C2A6F3B8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7B84E-8960-4C6F-AD98-59810DAA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CE802-5593-4380-AB5C-F5DDF55A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2095B-B897-496A-B514-A4CE2C39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852502-BE45-4711-8999-27502C8A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B199E3-783E-452E-ABB1-6DEB3A28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299692-37AC-4F51-BA8E-EAA22E90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26CC30-3A77-4681-AB39-EC47D958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404D4D-502C-404B-B0AB-5EC640E4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8BCC70-7D16-4C4F-8E54-549BC49B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D3302F-DFDD-4FE0-8DC4-1F9EC10E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F45F-0552-4BFE-BC5E-94E18300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B542F2-5F69-4357-B009-9064A911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723817-5669-4D6F-9EE9-B485B6BB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0AC6DE-F0C6-4EBD-ABC9-687FB7A9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E91B1E-3F7C-4503-992C-E544C9E27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A3EA61-D1BF-4050-B6DA-F5547323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9296-2CEE-436D-98AB-B84A2B6E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9118-DFF1-4340-AF23-EBCF9726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828B-134B-465E-AFAE-61EB054E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4315-7378-4CFA-BA9F-AD25A76F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84A3-DF7D-4621-BF8B-DA89067F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9C45-0599-4D36-9E23-74584F8D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1020-F8E2-457A-AD53-5CEDCBC5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2849-64D5-4075-83BD-0E50FA93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2DE5-5562-4E78-9BA1-19300CBD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7F19-8535-4109-BAC3-C1222C87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3CA0-ECF3-4969-978F-6586922D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0FAEC-9511-400A-913E-BC89D6F7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A9674-8DCA-40E3-9613-375F03D7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C420C-3BD5-4294-BE9B-FDBAD67A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34542-AA98-4CFF-98CD-5BD27A27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34AE1-C462-45E6-BE45-04FCCD6E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C2CE-B27E-4D79-8DD1-37A4D95C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88B6B-A8A2-4CC8-9F23-DDDCB985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26984-39D7-4C4A-B528-F57F1F4C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18CAF-B117-4C01-B4AA-2575505A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A492D-8ACB-4A71-B769-6CF17B55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1E2B5-45BB-4B16-8CE2-E2230AF0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C7F8A-88E8-46B0-ACBE-E323AFC0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85366-C548-4E63-A6BF-3C9E9A73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58E98-2631-407F-8D7F-BCC8D715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384F6-77C0-4B97-8CD5-FC9713BF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78649-8F6B-4CEC-9202-FC243FCE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5516-17B2-4C87-9097-8E0193B5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C40A6-B480-401B-9502-8E3BE65D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F699E-5AC4-4CAE-8AA0-EF023F75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D75B0-68E4-4637-A3D9-09C04091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E4C4E-175A-4224-B575-5CF9111A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7526E-DE50-4B13-A3AD-3D2CFCDA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83F8E-057A-428A-B86F-17370BBB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A2A41-30F9-4D56-B490-84DB7D13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05ACC-13DD-4400-8EFB-014AF94F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C3FD3-A7AE-4801-AB74-E7EBF38A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5516D-7603-4F80-935C-817E68EC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5CF7-616C-422D-A551-D9D7A991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D3C2B-2E77-45C8-9373-A841E529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CE973-E106-4CF7-99DD-E9AFB55A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3DCB1-BFC0-498C-BF87-51CFDD55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06A4B-814B-4F6F-B335-D8CAE345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07D11-807D-44FA-819C-E9D3211C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B69F6-B780-4BF2-BEAA-BEDB4333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11569-39FF-49A6-B9DE-986AE17E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548AF-1EF8-4A98-8CDE-64962A45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259C1-2C0A-4FA4-B5CD-2750AE4F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BB1F5-7CE3-427B-82E2-8CF63048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E919-73FD-4928-A172-98B85B1B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670FE-324F-435C-AC6C-10BEDF68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6B4DA-A8DA-4180-A3FB-EF79F72E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F79B4-AF0A-4E05-819A-CC7D106F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5ECD4-3DF7-4BF0-8883-1B902286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1BEDC-0B0D-49E6-A480-B5723315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CAF5E-6DF0-46A0-B26F-E63A86F1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E31CB-AB32-44D5-9411-302A851F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0CF3D-25D2-4B2B-AEA5-BC9D07ED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58EE5-85A6-4CE6-B423-0C4B1907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026F9-D386-4BD9-98B7-58E53D3F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582F-082D-4DBF-ACD6-F5A05C8C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B65E3-6226-45EE-BB28-9EFBE4F4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BCD4A-0191-4DE7-872D-DD927003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B3BB0-94EC-4232-9A3B-747C54B1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A2291-DF6F-4809-A445-50ADA7F6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21D33-1B98-4646-924D-8C44A980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6C99A-46B6-4B15-BAE3-6B452E0E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67335-24FD-42A9-8B95-999C4391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14137-625B-49A5-9F46-9C8E0754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1DA11-875E-469D-939E-4F91B49A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876B2-D976-4EBC-A05E-0B65ADE5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E64-FA8A-44A9-A5AA-FCF6AD58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5CE90-8ED7-4156-98C0-BEA43AAD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A6C58-A04A-4083-889F-63BCF66E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B1E56-CAA3-4290-A6E5-A36690F0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DB885-2CAC-455E-9078-0E2368C2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6930E-0720-43F9-ACCC-34772A4C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17E38-7A1E-47B6-9FAD-E266C7AA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C4294-DA0C-4799-AB06-6896AA06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55AB3-81B4-4600-82CE-4E65B7FC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0F599-32B2-45D3-8BB2-1C8C9252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B6F98-ACDA-4269-9CD9-12D59CD5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AC7F-A4F3-418D-8AF6-2AFD8CFB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2997C-C1FA-4387-B7B4-4371D092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B8804-F1F6-402C-A2CC-4D4AFE9B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C1F9A-FFFC-4203-A39D-EE56BF2D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5C58C-297C-4CCC-815F-135C9679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42C91-0482-4FE8-9227-19C2ECDE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AAD7A-BD9D-465B-B58C-248234B7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C4C35-A955-4107-B048-730E6B5F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5AE3FB-9F78-40F2-8DAA-D4D773BF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889896-99A7-4F56-9D05-5E87000C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E4FEE4-B00F-4011-8716-E1E95B0D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4C67-D70C-42F2-B540-B0D540030B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C0A3-C014-4DA7-86A1-790009F78F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A62C-2435-42F1-9F38-C2D5FE92DE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2887-9364-4775-BB61-F17DE8FCE2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9642-805E-4205-B37C-8F0D521D21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5E77-3343-43C6-99BE-5B6F4FFBB3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9955-C203-491A-817D-16E967341E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4A12-4571-4D93-BC26-C309DA5AF6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BB7C-6161-4B9F-87EA-9CFDF6BD1D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C5E4-EDEF-43B5-AEDC-AC0D631746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F85A-4A56-4E1B-94B3-C911B6B1257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825F-1F83-4A24-8535-48830CF195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Sungei Buloh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Rectangle 3" descr=""/>
          <p:cNvPicPr/>
          <p:nvPr/>
        </p:nvPicPr>
        <p:blipFill>
          <a:blip r:embed="rId1"/>
          <a:stretch/>
        </p:blipFill>
        <p:spPr>
          <a:xfrm>
            <a:off x="1743120" y="2792520"/>
            <a:ext cx="566892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onitor lizar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9" name="P5240111.AVI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257800" cy="3943080"/>
          </a:xfrm>
          <a:prstGeom prst="rect">
            <a:avLst/>
          </a:prstGeom>
          <a:ln w="0">
            <a:noFill/>
          </a:ln>
        </p:spPr>
      </p:pic>
      <p:sp>
        <p:nvSpPr>
          <p:cNvPr id="610" name="TextBox 4"/>
          <p:cNvSpPr/>
          <p:nvPr/>
        </p:nvSpPr>
        <p:spPr>
          <a:xfrm>
            <a:off x="228600" y="1828800"/>
            <a:ext cx="8915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Related to the awesome komodo dragon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Resides in Sungei Buloh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omic"/>
              </a:rPr>
              <a:t>mudskipp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2" name="Content Placeholder 3" descr="P5240106.JPG"/>
          <p:cNvPicPr/>
          <p:nvPr/>
        </p:nvPicPr>
        <p:blipFill>
          <a:blip r:embed="rId1"/>
          <a:stretch/>
        </p:blipFill>
        <p:spPr>
          <a:xfrm>
            <a:off x="1146240" y="1122480"/>
            <a:ext cx="7070760" cy="5297400"/>
          </a:xfrm>
          <a:prstGeom prst="rect">
            <a:avLst/>
          </a:prstGeom>
          <a:ln w="0">
            <a:noFill/>
          </a:ln>
        </p:spPr>
      </p:pic>
      <p:pic>
        <p:nvPicPr>
          <p:cNvPr id="613" name="P5240108.AVI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6019920" cy="4514760"/>
          </a:xfrm>
          <a:prstGeom prst="rect">
            <a:avLst/>
          </a:prstGeom>
          <a:ln w="0">
            <a:noFill/>
          </a:ln>
        </p:spPr>
      </p:pic>
      <p:sp>
        <p:nvSpPr>
          <p:cNvPr id="614" name="TextBox 6"/>
          <p:cNvSpPr/>
          <p:nvPr/>
        </p:nvSpPr>
        <p:spPr>
          <a:xfrm>
            <a:off x="457200" y="198108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The only fish that can move about on land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Breathes with gill chamber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6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kau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6" name="Content Placeholder 3" descr="P5240085.JPG"/>
          <p:cNvPicPr/>
          <p:nvPr/>
        </p:nvPicPr>
        <p:blipFill>
          <a:blip r:embed="rId1"/>
          <a:stretch/>
        </p:blipFill>
        <p:spPr>
          <a:xfrm>
            <a:off x="1676520" y="144792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617" name="TextBox 5"/>
          <p:cNvSpPr/>
          <p:nvPr/>
        </p:nvSpPr>
        <p:spPr>
          <a:xfrm>
            <a:off x="457200" y="198108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A type of mangrove tree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Prop roots allow it to withstand the mangrove condition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rab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9" name="Content Placeholder 3" descr="P5240109.JPG"/>
          <p:cNvPicPr/>
          <p:nvPr/>
        </p:nvPicPr>
        <p:blipFill>
          <a:blip r:embed="rId1"/>
          <a:stretch/>
        </p:blipFill>
        <p:spPr>
          <a:xfrm>
            <a:off x="1295280" y="114300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620" name="TextBox 4"/>
          <p:cNvSpPr/>
          <p:nvPr/>
        </p:nvSpPr>
        <p:spPr>
          <a:xfrm>
            <a:off x="629280" y="1143000"/>
            <a:ext cx="771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rabs are one of the most commonly seen creatures in Sungei Buloh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However, as their colour is similar to that of their surroundings,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ey cannot be spotted easily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ocal bird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2" name="Picture 4" descr="http://www.mangoverde.com/birdsound/images/00000010956.jpg"/>
          <p:cNvPicPr/>
          <p:nvPr/>
        </p:nvPicPr>
        <p:blipFill>
          <a:blip r:embed="rId1"/>
          <a:stretch/>
        </p:blipFill>
        <p:spPr>
          <a:xfrm>
            <a:off x="685800" y="1295280"/>
            <a:ext cx="3733920" cy="26085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8" descr="http://upload.wikimedia.org/wikipedia/commons/thumb/9/94/Lesswhistlingduck1.jpg/220px-Lesswhistlingduck1.jpg"/>
          <p:cNvPicPr/>
          <p:nvPr/>
        </p:nvPicPr>
        <p:blipFill>
          <a:blip r:embed="rId2"/>
          <a:stretch/>
        </p:blipFill>
        <p:spPr>
          <a:xfrm>
            <a:off x="3657600" y="4038480"/>
            <a:ext cx="3962520" cy="2413080"/>
          </a:xfrm>
          <a:prstGeom prst="rect">
            <a:avLst/>
          </a:prstGeom>
          <a:ln w="0">
            <a:noFill/>
          </a:ln>
        </p:spPr>
      </p:pic>
      <p:sp>
        <p:nvSpPr>
          <p:cNvPr id="624" name="TextBox 10"/>
          <p:cNvSpPr/>
          <p:nvPr/>
        </p:nvSpPr>
        <p:spPr>
          <a:xfrm>
            <a:off x="4447080" y="358128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Lesser Whistling-Duck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TextBox 11"/>
          <p:cNvSpPr/>
          <p:nvPr/>
        </p:nvSpPr>
        <p:spPr>
          <a:xfrm>
            <a:off x="1472760" y="838080"/>
            <a:ext cx="193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ed Jungle Fow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igratory bird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7" name="Picture 10" descr="http://upload.wikimedia.org/wikipedia/commons/thumb/f/f5/Calidris_ferruginea_%28Marek_Szczepanek%29.jpg/220px-Calidris_ferruginea_%28Marek_Szczepanek%29.jpg"/>
          <p:cNvPicPr/>
          <p:nvPr/>
        </p:nvPicPr>
        <p:blipFill>
          <a:blip r:embed="rId1"/>
          <a:stretch/>
        </p:blipFill>
        <p:spPr>
          <a:xfrm>
            <a:off x="1066680" y="1066680"/>
            <a:ext cx="3541680" cy="22860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2" descr="http://upload.wikimedia.org/wikipedia/en/thumb/a/a6/Marsh_sandpiper_small.jpg/220px-Marsh_sandpiper_small.jpg"/>
          <p:cNvPicPr/>
          <p:nvPr/>
        </p:nvPicPr>
        <p:blipFill>
          <a:blip r:embed="rId2"/>
          <a:stretch/>
        </p:blipFill>
        <p:spPr>
          <a:xfrm>
            <a:off x="4952880" y="114300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4" descr="http://upload.wikimedia.org/wikipedia/commons/thumb/e/ea/Tringa_nebularia0.jpg/220px-Tringa_nebularia0.jpg"/>
          <p:cNvPicPr/>
          <p:nvPr/>
        </p:nvPicPr>
        <p:blipFill>
          <a:blip r:embed="rId3"/>
          <a:stretch/>
        </p:blipFill>
        <p:spPr>
          <a:xfrm>
            <a:off x="1295280" y="3657600"/>
            <a:ext cx="3810240" cy="2874960"/>
          </a:xfrm>
          <a:prstGeom prst="rect">
            <a:avLst/>
          </a:prstGeom>
          <a:ln w="0">
            <a:noFill/>
          </a:ln>
        </p:spPr>
      </p:pic>
      <p:sp>
        <p:nvSpPr>
          <p:cNvPr id="630" name="TextBox 10"/>
          <p:cNvSpPr/>
          <p:nvPr/>
        </p:nvSpPr>
        <p:spPr>
          <a:xfrm>
            <a:off x="5055480" y="4114800"/>
            <a:ext cx="325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ockwise from bottom left: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mmon Greenshank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urlew Sandpiper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Marsh Sandpiper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serv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iodiversity in Singapore is preciou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nserve it for the future generation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3" name="Picture 3" descr="P5240029.JPG"/>
          <p:cNvPicPr/>
          <p:nvPr/>
        </p:nvPicPr>
        <p:blipFill>
          <a:blip r:embed="rId1"/>
          <a:stretch/>
        </p:blipFill>
        <p:spPr>
          <a:xfrm>
            <a:off x="0" y="2971800"/>
            <a:ext cx="4438800" cy="33289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4" descr="P5240096.JPG"/>
          <p:cNvPicPr/>
          <p:nvPr/>
        </p:nvPicPr>
        <p:blipFill>
          <a:blip r:embed="rId2"/>
          <a:stretch/>
        </p:blipFill>
        <p:spPr>
          <a:xfrm>
            <a:off x="4572000" y="2952720"/>
            <a:ext cx="441324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to conserv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52280" y="1295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OP dumping rubbish into the ocean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&gt; Non bio-degradable rubbish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&gt; Leave nothing but footprints, take nothing but photograph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Picture 3" descr="P5240098.JPG"/>
          <p:cNvPicPr/>
          <p:nvPr/>
        </p:nvPicPr>
        <p:blipFill>
          <a:blip r:embed="rId1"/>
          <a:srcRect l="9950" t="0" r="30349" b="31023"/>
          <a:stretch/>
        </p:blipFill>
        <p:spPr>
          <a:xfrm>
            <a:off x="762120" y="2895480"/>
            <a:ext cx="2286000" cy="19814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4" descr="P5240055.JPG"/>
          <p:cNvPicPr/>
          <p:nvPr/>
        </p:nvPicPr>
        <p:blipFill>
          <a:blip r:embed="rId2"/>
          <a:srcRect l="8071" t="0" r="15293" b="39497"/>
          <a:stretch/>
        </p:blipFill>
        <p:spPr>
          <a:xfrm>
            <a:off x="762120" y="4952880"/>
            <a:ext cx="28954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5:35:42Z</dcterms:created>
  <dc:creator>David Boo Koh</dc:creator>
  <dc:description/>
  <dc:language>en-US</dc:language>
  <cp:lastModifiedBy>David Boo Koh</cp:lastModifiedBy>
  <dcterms:modified xsi:type="dcterms:W3CDTF">2010-05-25T10:24:06Z</dcterms:modified>
  <cp:revision>27</cp:revision>
  <dc:subject/>
  <dc:title>Slide 1</dc:title>
</cp:coreProperties>
</file>