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3D2-0B57-4EB2-A92D-93113CF3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A75-5379-49E1-A148-742BDB57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16AE2-D7D5-4732-A4DE-E86E6E4B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4ED4B-BCE1-4A8C-8FA0-6AF41DC4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10E59-38D7-4604-9230-18BEE9B3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F8881-DDF4-45A7-A17D-6EDEB278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99CFF6-D68A-4A33-8F80-96095A3C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0D77F-4CB4-47A0-968C-E114FA1A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C14BB-0BA8-46EB-8867-F7874072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4B8D8-54FC-4F7B-A491-9B1BA251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C6B8A-5322-4D57-9A12-7E137956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6B129-F4F8-4FE3-9161-0DA3C69A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22F-0237-42F7-A679-BDE4EFB7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E744C-E58D-44CE-A05B-1F934748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A14DC-3CC2-4E4B-9E9C-FC27B083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BBF45-36F2-46D6-8587-2063CBE8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AEB17-8CF1-446A-8DD8-3241C7D8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6527B-1A5B-4A0D-87A5-36D1A306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63921-98DF-4902-92B3-F003E146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66566-4DE8-4CB9-AD77-3C75E15D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6513A-19A5-45FF-9960-4E432BB9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081AD-1D29-4A70-8958-0E63B82B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EF68B-7DC7-49C1-A1C1-C25803CE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6FF-FC59-4297-9928-E1568E8C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7C580-B069-40E6-ADE7-4E59AF61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78328-3010-444A-B165-198E9A95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87840-CED1-4F19-B09B-47173111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DF2FE-71CF-46E5-BEB2-EED2F9FA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127E3-3129-40DA-8E43-17B5E664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75CA5-C799-4399-8052-F73A9A35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5BFF1-0C27-486C-B2C8-5C48FC9A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20B9B-43BB-4418-8336-97777652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4F9CF-B440-4525-9FD2-A70B1070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7F0F1-CCC6-4FB7-B952-6E784223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A6CD-8844-4546-8108-E0457533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CC1F4-70C6-4905-B338-B87938A4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9D57A-C931-4E53-B4C7-FBE33C35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1B86A-6568-40FC-B11F-D1A53FA6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7507C-8BDC-467E-A7CE-FCAAE476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03223-AB8E-4573-B608-58062D77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834F4-EA2E-4BE5-88BD-D5CB30A6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438279-BE2F-48EF-9F17-1AC1382E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3D1C0-D937-414B-BCC7-3C6C36C0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D2A38-62DC-4078-BE0D-79980410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22F13-2B18-44B5-8A8E-951358FA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7C0D-5A84-4C9F-9251-120DBA1C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F3E72-C462-4277-929A-B9EC6C50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2B507-CF6E-4EDA-8515-D8054715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7ECAF-782A-492B-890F-FD42E75F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69CFE-CD3C-4454-A418-F862DAF4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230DA-299D-4C76-99DA-95160E62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60F3-2095-4F68-9B65-A66F2D94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1EB2-E9A4-4369-A76B-EC22092D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B6DF-788C-4F95-A91A-5A0C7A9B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F180-7683-43C6-BC9B-CB54ADD5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FBEC-80B7-467B-9FD6-56973EB4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D23-3165-4FA6-B2E4-C5EB3D53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614C-0B62-48AA-A61E-CD5C6E7B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CA42-6581-4C1A-8F4D-57E0D337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820C-FFB6-42C7-8A8B-B676F84C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3E6F-1F75-4A47-9372-EA8E67EA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416D-7446-4C76-9CEC-E68610E4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B7FAC-D98C-4FE1-BBEA-8AA91618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A3CEA-5C76-40AC-AA8D-A1F33B2B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C85D3-65AF-478A-AABC-B998604F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746F-88AD-410A-A62C-9DF2E227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A2139-CFEC-4502-9F84-73AF8E17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58E-61D3-40D1-AD61-5A26B626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55CCC-DC67-4A66-A89D-2C5136AF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DD71F-5FD8-49BC-A613-7EE7A662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46F32-877C-4C06-8A59-BE8760FF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A52D2-F86F-4531-B7E6-9B65B81F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8E5F3-B9E3-4FD2-8EB1-40D35FC8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C5E6D-3EFA-4B8B-A68D-1102D4A6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9835D-5B5A-4AE8-B105-86941335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6A6FA-58FF-4D2E-B6AD-F4A33B57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6F45D-7854-44E9-A23A-C6673A26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BF2C8-7B9E-4247-8B97-9F1069A0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4AF-EDEF-43F2-9F33-939C9F26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E9509-F3E8-498B-9156-9027E45F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2763A-EBFD-4C64-852C-EFC2E4E7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05DA-715D-4EE8-8286-1DF1E40B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A262A-3BB6-4412-A70C-748932F6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43DB3-F0E3-4E8B-94F5-DFF0C848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22402-1DB4-4182-B757-E40E15B9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36764-4D38-49AC-856A-74BFA3D4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9419E-33AE-4CD7-8F1E-A42AEE62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B9159-547E-4795-A6EF-91F6C6A4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B3669-3299-4C34-A433-F70E596A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F51-846D-4ED7-A0AD-CB097CA3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8DA92-BCFE-4D93-A2D1-29C24374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AB4D7-94CE-4DB4-9A40-4A7773D0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4FB7E-38FE-40CF-8614-E1F5CFA1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D05A5-7560-4720-A2BC-0BB2AFF7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6867F-AFEB-481C-BC6A-6BFE5422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A1BCC-47A6-4328-8D19-F2C0E7FF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3A63B-07D8-4480-B77D-680E6D6B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69927-8ED9-464D-BDB7-45336027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B2220-6CB7-48A7-881E-FA07CE4E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E0101-30B5-4D39-A3AB-1CD8C306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E5F-29EB-448F-BE2D-2FE89A1B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70929-8AB7-49BC-986D-B4D5289F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C0393-B247-4E30-9546-D6E1722F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86039-437F-4401-8DFE-90341C8E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22E5F-DA87-4A7E-B12A-1E1FE83F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266A2-58F2-4DA9-BB65-9140A3D9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9DD4C-A260-4100-88E2-C5D1F14E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2D29F-D461-4366-9159-7F11C85A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DBF85-8F9C-4833-8FB5-89D5086F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4D5B0-2FF0-4E94-9D31-C429B226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73095-A69B-4364-9E34-B9D0F506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7A2-516E-42CC-A9BB-458B4065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72B6D-2FC2-4C19-927F-82C12E38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5BF56-983E-4578-8D55-2FF3E9EF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A9595-D8CD-417E-88C6-8D9FB1D4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1C0E9-0601-4998-92B0-FDFBE14F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A0600-68E7-4ACB-BF01-07F22B0F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8EA9F-749C-4D64-BA6A-0CC014B2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7CAA2-8F06-46AA-868D-6A96C1BD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F77C7-8B64-480C-BBCA-7B4CACEE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3F34C-94B8-433A-B868-14AAF3CE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D21B1-4AEA-4C72-ACA6-C676AAB3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23D-B833-4356-B5E6-A50D0B19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D6B00-9BBC-4E83-A7A9-0F533653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0269D-9E68-421E-86FE-2CD37AEF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F1A6E-8D59-4125-8A00-8B5A5E1F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D8D85-9187-4D5D-B5EE-284EEF20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2C912-598B-47E0-830B-2850FF3E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7642B-1481-4D1A-823D-32BD9D5E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1C2A3-A342-47CC-BADF-5ACB58E9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4FBE7-D242-45F9-9300-87045B15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2D8F6-0149-4389-8BC1-64ECDD17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34509-FABD-4C8A-9D5E-783C2742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745-2FBD-4E67-9701-A92C9AD3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29B40-14B5-4938-8569-D4649265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4B1F9-ECAF-4A29-9CC5-A8DE6C2B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7CC66-9976-459B-9F11-BCBEE10E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6D8B3-E8A8-4562-9C8D-642129BA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DE848-8636-4FCE-A638-3940D858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3B688-A23D-43BB-9907-8BAB9CAB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FCE1F-11A1-4879-AD88-CBC9AF90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E1E87-ABA3-4647-AA7A-793053B4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F0D3A-42E4-4A6A-93F7-7F5D5F51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250C1-5376-4534-BD5A-C8734651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44E6-140C-422A-AF76-6868644226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60F5-1A17-46DF-ACA1-D0DEB327C2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56F7-F684-4884-95AC-704D983CE3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53BF-2384-410B-9B4E-EA6904650E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FED0-F12F-4070-A6A0-7A86FE403A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7B9E-3E63-4597-B138-832103290C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A476-4DB0-42B0-A419-8FEA70132C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C57C-3BA2-4E4C-B3B1-9FBB541265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9990-EB52-4BA6-88A6-6AA223A1FD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F533-7996-43F8-8226-6487718778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B99D-1C3B-4B61-9AA8-E0D5564823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894C-FA88-4418-AB3D-2E443644A9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Sungei Buloh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Rectangle 3" descr=""/>
          <p:cNvPicPr/>
          <p:nvPr/>
        </p:nvPicPr>
        <p:blipFill>
          <a:blip r:embed="rId1"/>
          <a:stretch/>
        </p:blipFill>
        <p:spPr>
          <a:xfrm>
            <a:off x="1743120" y="2792520"/>
            <a:ext cx="56689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nitor lizar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9" name="P5240111.AVI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257800" cy="3943080"/>
          </a:xfrm>
          <a:prstGeom prst="rect">
            <a:avLst/>
          </a:prstGeom>
          <a:ln w="0">
            <a:noFill/>
          </a:ln>
        </p:spPr>
      </p:pic>
      <p:sp>
        <p:nvSpPr>
          <p:cNvPr id="610" name="TextBox 4"/>
          <p:cNvSpPr/>
          <p:nvPr/>
        </p:nvSpPr>
        <p:spPr>
          <a:xfrm>
            <a:off x="228600" y="18288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Related to the awesome komodo drag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Resides in Sungei Buloh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omic"/>
              </a:rPr>
              <a:t>mudskipp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2" name="Content Placeholder 3" descr="P5240106.JPG"/>
          <p:cNvPicPr/>
          <p:nvPr/>
        </p:nvPicPr>
        <p:blipFill>
          <a:blip r:embed="rId1"/>
          <a:stretch/>
        </p:blipFill>
        <p:spPr>
          <a:xfrm>
            <a:off x="1146240" y="1122480"/>
            <a:ext cx="7070760" cy="5297400"/>
          </a:xfrm>
          <a:prstGeom prst="rect">
            <a:avLst/>
          </a:prstGeom>
          <a:ln w="0">
            <a:noFill/>
          </a:ln>
        </p:spPr>
      </p:pic>
      <p:pic>
        <p:nvPicPr>
          <p:cNvPr id="613" name="P5240108.AVI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019920" cy="4514760"/>
          </a:xfrm>
          <a:prstGeom prst="rect">
            <a:avLst/>
          </a:prstGeom>
          <a:ln w="0">
            <a:noFill/>
          </a:ln>
        </p:spPr>
      </p:pic>
      <p:sp>
        <p:nvSpPr>
          <p:cNvPr id="614" name="TextBox 6"/>
          <p:cNvSpPr/>
          <p:nvPr/>
        </p:nvSpPr>
        <p:spPr>
          <a:xfrm>
            <a:off x="457200" y="198108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The only fish that can move about on land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Breathes with gill chamber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kau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Content Placeholder 3" descr="P5240085.JPG"/>
          <p:cNvPicPr/>
          <p:nvPr/>
        </p:nvPicPr>
        <p:blipFill>
          <a:blip r:embed="rId1"/>
          <a:stretch/>
        </p:blipFill>
        <p:spPr>
          <a:xfrm>
            <a:off x="1676520" y="14479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17" name="TextBox 5"/>
          <p:cNvSpPr/>
          <p:nvPr/>
        </p:nvSpPr>
        <p:spPr>
          <a:xfrm>
            <a:off x="457200" y="198108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A type of mangrove tre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Prop roots allow it to withstand the mangrove condition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ab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Content Placeholder 3" descr="P5240109.JPG"/>
          <p:cNvPicPr/>
          <p:nvPr/>
        </p:nvPicPr>
        <p:blipFill>
          <a:blip r:embed="rId1"/>
          <a:stretch/>
        </p:blipFill>
        <p:spPr>
          <a:xfrm>
            <a:off x="1295280" y="11430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620" name="TextBox 4"/>
          <p:cNvSpPr/>
          <p:nvPr/>
        </p:nvSpPr>
        <p:spPr>
          <a:xfrm>
            <a:off x="629280" y="114300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rabs are one of the most commonly seen creatures in Sungei Buloh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owever, as their colour is similar to that of their surroundings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y cannot be spotted easily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ocal bir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Picture 4" descr="http://www.mangoverde.com/birdsound/images/00000010956.jpg"/>
          <p:cNvPicPr/>
          <p:nvPr/>
        </p:nvPicPr>
        <p:blipFill>
          <a:blip r:embed="rId1"/>
          <a:stretch/>
        </p:blipFill>
        <p:spPr>
          <a:xfrm>
            <a:off x="685800" y="1295280"/>
            <a:ext cx="3733920" cy="26085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8" descr="http://upload.wikimedia.org/wikipedia/commons/thumb/9/94/Lesswhistlingduck1.jpg/220px-Lesswhistlingduck1.jpg"/>
          <p:cNvPicPr/>
          <p:nvPr/>
        </p:nvPicPr>
        <p:blipFill>
          <a:blip r:embed="rId2"/>
          <a:stretch/>
        </p:blipFill>
        <p:spPr>
          <a:xfrm>
            <a:off x="3657600" y="4038480"/>
            <a:ext cx="3962520" cy="2413080"/>
          </a:xfrm>
          <a:prstGeom prst="rect">
            <a:avLst/>
          </a:prstGeom>
          <a:ln w="0">
            <a:noFill/>
          </a:ln>
        </p:spPr>
      </p:pic>
      <p:sp>
        <p:nvSpPr>
          <p:cNvPr id="624" name="TextBox 10"/>
          <p:cNvSpPr/>
          <p:nvPr/>
        </p:nvSpPr>
        <p:spPr>
          <a:xfrm>
            <a:off x="4447080" y="358128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esser Whistling-Duck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TextBox 11"/>
          <p:cNvSpPr/>
          <p:nvPr/>
        </p:nvSpPr>
        <p:spPr>
          <a:xfrm>
            <a:off x="1472760" y="83808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d Jungle Fow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igratory bir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7" name="Picture 10" descr="http://upload.wikimedia.org/wikipedia/commons/thumb/f/f5/Calidris_ferruginea_%28Marek_Szczepanek%29.jpg/220px-Calidris_ferruginea_%28Marek_Szczepanek%29.jpg"/>
          <p:cNvPicPr/>
          <p:nvPr/>
        </p:nvPicPr>
        <p:blipFill>
          <a:blip r:embed="rId1"/>
          <a:stretch/>
        </p:blipFill>
        <p:spPr>
          <a:xfrm>
            <a:off x="1066680" y="1066680"/>
            <a:ext cx="3541680" cy="2286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2" descr="http://upload.wikimedia.org/wikipedia/en/thumb/a/a6/Marsh_sandpiper_small.jpg/220px-Marsh_sandpiper_small.jpg"/>
          <p:cNvPicPr/>
          <p:nvPr/>
        </p:nvPicPr>
        <p:blipFill>
          <a:blip r:embed="rId2"/>
          <a:stretch/>
        </p:blipFill>
        <p:spPr>
          <a:xfrm>
            <a:off x="4952880" y="11430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4" descr="http://upload.wikimedia.org/wikipedia/commons/thumb/e/ea/Tringa_nebularia0.jpg/220px-Tringa_nebularia0.jpg"/>
          <p:cNvPicPr/>
          <p:nvPr/>
        </p:nvPicPr>
        <p:blipFill>
          <a:blip r:embed="rId3"/>
          <a:stretch/>
        </p:blipFill>
        <p:spPr>
          <a:xfrm>
            <a:off x="1295280" y="3657600"/>
            <a:ext cx="3810240" cy="2874960"/>
          </a:xfrm>
          <a:prstGeom prst="rect">
            <a:avLst/>
          </a:prstGeom>
          <a:ln w="0">
            <a:noFill/>
          </a:ln>
        </p:spPr>
      </p:pic>
      <p:sp>
        <p:nvSpPr>
          <p:cNvPr id="630" name="TextBox 10"/>
          <p:cNvSpPr/>
          <p:nvPr/>
        </p:nvSpPr>
        <p:spPr>
          <a:xfrm>
            <a:off x="5055480" y="4114800"/>
            <a:ext cx="32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ockwise from bottom left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mmon Greenshank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urlew Sandpiper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arsh Sandpiper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serv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iodiversity in Singapore is preciou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serve it for the future generatio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3" descr="P5240029.JPG"/>
          <p:cNvPicPr/>
          <p:nvPr/>
        </p:nvPicPr>
        <p:blipFill>
          <a:blip r:embed="rId1"/>
          <a:stretch/>
        </p:blipFill>
        <p:spPr>
          <a:xfrm>
            <a:off x="0" y="2971800"/>
            <a:ext cx="4438800" cy="3328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P5240096.JPG"/>
          <p:cNvPicPr/>
          <p:nvPr/>
        </p:nvPicPr>
        <p:blipFill>
          <a:blip r:embed="rId2"/>
          <a:stretch/>
        </p:blipFill>
        <p:spPr>
          <a:xfrm>
            <a:off x="4572000" y="295272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to conserv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2280" y="1295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OP dumping rubbish into the ocea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&gt; Non bio-degradable rubbish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&gt; Leave nothing but footprints, take nothing but photograph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3" descr="P5240098.JPG"/>
          <p:cNvPicPr/>
          <p:nvPr/>
        </p:nvPicPr>
        <p:blipFill>
          <a:blip r:embed="rId1"/>
          <a:srcRect l="9950" t="0" r="30349" b="31023"/>
          <a:stretch/>
        </p:blipFill>
        <p:spPr>
          <a:xfrm>
            <a:off x="762120" y="28954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P5240055.JPG"/>
          <p:cNvPicPr/>
          <p:nvPr/>
        </p:nvPicPr>
        <p:blipFill>
          <a:blip r:embed="rId2"/>
          <a:srcRect l="8071" t="0" r="15293" b="39497"/>
          <a:stretch/>
        </p:blipFill>
        <p:spPr>
          <a:xfrm>
            <a:off x="762120" y="4952880"/>
            <a:ext cx="28954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5:35:42Z</dcterms:created>
  <dc:creator>David Boo Koh</dc:creator>
  <dc:description/>
  <dc:language>en-US</dc:language>
  <cp:lastModifiedBy>David Boo Koh</cp:lastModifiedBy>
  <dcterms:modified xsi:type="dcterms:W3CDTF">2010-05-25T10:24:06Z</dcterms:modified>
  <cp:revision>27</cp:revision>
  <dc:subject/>
  <dc:title>Slide 1</dc:title>
</cp:coreProperties>
</file>