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16D-17DB-486C-813A-25338135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943-596F-47DC-9918-CA2D2EBD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5FA4E-F099-4426-9C15-F970615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844FC-9869-4253-BFB7-992291CE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E49F1-29DB-45DD-88B8-DC38E21D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DF03F-2A51-49B5-ABC3-A225A76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22D55-9594-4F08-AF9E-8B5F6D6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1E487-9141-454C-B585-8D11B47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02B05-5976-488E-803F-26A992E5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11892-4705-496C-9684-A4D4F5B4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8A882-13ED-4487-B40C-5A1C5F7D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15878-3253-485A-B7B6-D5AF757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B5C-BCAD-4812-AA72-D0FD9AA8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0B7B9-0016-4D72-9C1D-D8F2667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234F0-4445-4DE2-805A-062C07A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EFB60-73FD-4103-B648-F960D51E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F8107-47E3-4217-B918-AB93722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D33CE-B7BF-4704-B29C-E7E8E7D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6503E-38A1-490E-8734-DCA3EFE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9795B-E05C-42C6-894F-15692650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D6279-C675-4F45-A899-6B174A9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FE96D-686B-4E86-9205-C66EA21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DA269-C1A6-4352-BA44-1AFFC246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CAE-4267-45E7-8747-386A0F04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4598C-08D6-4F67-80F0-2045DE00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5CBD5-CC23-49A8-98D9-9932C65C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7F8EE-EC03-4A47-83D8-5091E2A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452CA-8078-4408-AC51-227062DA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CF9BA-D5B8-49A7-B4A1-FAA2A373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DA6B-41FA-4077-9586-A46D64B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EE26-75E6-4F77-84A7-1197C8D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30DAD-8A74-410F-BEFA-02F0E34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A6BFA-1CEE-4783-88CC-59D9D21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126A-3A07-4E55-83F6-D3A91C1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92F-C591-4194-A5E5-8FE1921A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A2162-3B2F-4765-8CA6-6824902D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E61E2-EE72-46DC-BA6E-C344C49E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E2F61-2F14-4590-877C-0F0345D0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17703-5DA7-412A-A7CD-D648ABE7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344C2-5B55-4A5E-947D-CB82FAE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55BF3-BB8C-4FD2-AFB7-449B9DD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24A4D-D31C-4177-848A-0425F45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63F14-9A1C-4277-9513-A588A15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EF67D-DC4C-452E-B290-8DBA8173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A04D3-0E27-458E-90DE-244E6BF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C24D-A0DF-4EA1-B5C8-31411FDE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D265B-31B7-4FC2-B06E-1CFC3BF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5DDBE-F1FC-41B3-BD8E-FAE823EB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18423-D29E-4628-99C0-3A6E287D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057B9-E48A-4A43-A4C7-B0873A6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98E61-3C40-4250-B8D2-3616FA9D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958E-0C65-4B4C-AA0A-64565E65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BA2-5267-4913-9E9E-D17F1B50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9CB5-E183-41A7-BB98-039E83F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C20D-289F-4754-A15C-9D92404B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6DC1-A30F-4A62-891E-470AA36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6F7-6E17-4857-AD01-2FED0A7B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C198-53D7-46D8-889C-D9EB7820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ACC7-95C7-4D54-B50A-A4B41F7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E0DF-4676-40D0-BB45-AB19CBD5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0A68-851A-4D60-99A0-C8BE7519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1317-E5A4-4162-8EF3-080AFF91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F779-AF8A-456A-8DD8-6089C965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0AC8-C1C8-4C07-AE33-352348D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3F4A-02E9-4CCE-8474-99000A6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E1BE-FC40-4356-B321-8B1B6F18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FFE2-11DC-4494-A745-AA50090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2DA-10F1-4A00-AC12-0FA5E401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2767-6D79-496F-B0E1-C7E0CB89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EDFA-748A-428F-AECD-09720BC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66FE-21C6-45B8-ADDB-9DD2E19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BD03-F115-40E6-B405-A0CAABD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D4BF-B210-4D63-9436-20818FA0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04B7-EA02-4B17-9AAA-1EA91A3B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D6A1-16FC-41B7-9F42-2FD52203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BB02-9415-439A-B71E-0D1B8167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4C92-D9A3-4827-B284-ED8E1DD3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E47F-036F-4226-A2D4-9CA75787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869-BAD1-4787-95DC-0977EAB9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0392-9782-494F-9117-C84F1220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B5E1-08C0-4259-B2A3-53F59F7E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82730-9B8D-4D26-8ED3-FCAC9BA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B967-BC5A-4A4A-88A6-978A395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450B-6161-4D15-A846-B8A9CCF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37E0-6DF5-41E8-B095-9A47644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EAD9-DED7-4CAB-8133-65E1D9E3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8BBD-C3C5-4E1A-918A-141EE5A0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C001-366A-49B3-871C-746430FB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88B4-EF5C-4F97-A866-3E437E4E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9E4-D173-474C-9044-AB79DAB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C66A-1F2D-4358-9772-CBF16A1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25C0-C935-4759-8336-E8C3DAD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D895-1256-4223-92BE-EDD096DE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976E-37C6-4FDB-81D0-C38A989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15A0-2F93-4B93-943E-3162627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2E90-48B7-4380-9466-5C1FC1D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F7070-9A29-43DB-8F95-9B09626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5149-2430-4457-859E-E2FCA13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A632-9ABA-4211-8702-C17B125D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1409-6FFB-427F-92D8-5BEF518A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499-F00A-48FE-9946-A6F38BBA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9A4E-893F-401A-A27E-73FD3C60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0BD4-8199-44D2-A653-73CB03A1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D9C6-ABDC-4FCF-A883-BC7BF30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74444-8614-4B74-BFC9-4BFC0595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B5FBA-5C8B-45C4-9EB7-5753481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A66F-0D04-4057-B241-9F2CCDE0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FEF7-DB66-4E3B-8492-272E9F7D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3365-453D-424F-ABA9-EBE3B4E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DA97-6FD4-4C62-ABB9-3064504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738E-1370-458B-BD17-19BDA132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FAB-4085-4DD8-9AD5-E702B4D5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0EE1-4641-4831-8BFA-44B10D3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DD6CC-DAB8-4966-B18A-FE950784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E4DFD-D021-423C-B9B8-D662E8BA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E3AB-74E5-46BF-8510-0112B309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B9E8-0D3F-4811-8BD0-472408A8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9CC0F-96A9-42A2-BB21-AEAAE2F2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FB7D5-CD82-4A02-975B-2D8B2AF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22231-C90F-4CEC-B710-B3FBC5D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C3BF-59D4-4A56-B245-9DA4895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082B-4003-4CA1-B65D-CC16C6B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458-6E7D-4E75-8709-8045341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8C2D-82BB-49D8-8D60-A78BFA1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8C437-CD6D-41DA-ADC0-20105DC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9653-98CF-4AEC-84C8-4FC7E72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363B-7A25-4B70-9DBA-FCBD9320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9F66-F7B6-4A93-9F22-15ED56DB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36F72-F992-4CD6-8B53-0807EF33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4733D-F9C9-4465-A8AB-F10A9C5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543E-3AC4-4541-B631-81CDE15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B638-BB11-4757-9BBD-2EF578B0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CBEE-7078-4014-9699-D3FA050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350-8DD3-4F55-892E-30D2E39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D24A-4C0C-4437-9E68-1BB40C9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5A58-B28D-448E-9887-F93F87E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C6354-97A3-46B5-A167-A8DC529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39800-3B3B-45AF-A49E-929D388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009A8-3464-4014-830C-A15A89BF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A915C-F414-4699-8236-5DCD0BD7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F0B54-644F-4977-9C4A-0B581D12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50850-D70F-4EF6-BA6E-F9BFB807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E72E0-D457-49F9-AD73-10A64977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9C845-EC22-4110-8A02-0B1B776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0BD-7104-4820-AA74-3D245DF35C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E8D1-0B6B-476A-8BD3-FC8691116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5CB7-E08C-454D-886C-3DDBBCF71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921-8250-48B1-A06D-3048786A1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6F06-134A-4536-B2E2-3B9302E83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47A-D1BE-4E39-A634-4D603EBBB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F19-2939-425A-A6A8-64AE6B53E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F89E-A952-4E1E-95FF-7D9B1113F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403E-03C0-4A59-830A-AAAE35AFC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3A41-E51A-4466-B08A-1C0351CA9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E29-4BD9-4F49-ACC3-79AAF0F336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E8A6-7186-491A-A299-2FE19B11E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ungei Bulo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Rectangle 3" descr=""/>
          <p:cNvPicPr/>
          <p:nvPr/>
        </p:nvPicPr>
        <p:blipFill>
          <a:blip r:embed="rId1"/>
          <a:stretch/>
        </p:blipFill>
        <p:spPr>
          <a:xfrm>
            <a:off x="1743120" y="2792520"/>
            <a:ext cx="56689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itor lizar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5240111.AVI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4"/>
          <p:cNvSpPr/>
          <p:nvPr/>
        </p:nvSpPr>
        <p:spPr>
          <a:xfrm>
            <a:off x="228600" y="18288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lated to the awesome komodo drag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sides in Sungei Bulo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omic"/>
              </a:rPr>
              <a:t>mudskipp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Content Placeholder 3" descr="P5240106.JPG"/>
          <p:cNvPicPr/>
          <p:nvPr/>
        </p:nvPicPr>
        <p:blipFill>
          <a:blip r:embed="rId1"/>
          <a:stretch/>
        </p:blipFill>
        <p:spPr>
          <a:xfrm>
            <a:off x="1146240" y="1122480"/>
            <a:ext cx="7070760" cy="5297400"/>
          </a:xfrm>
          <a:prstGeom prst="rect">
            <a:avLst/>
          </a:prstGeom>
          <a:ln w="0">
            <a:noFill/>
          </a:ln>
        </p:spPr>
      </p:pic>
      <p:pic>
        <p:nvPicPr>
          <p:cNvPr id="613" name="P5240108.AVI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614" name="TextBox 6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he only fish that can move about on la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reathes with gill chamb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ka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Content Placeholder 3" descr="P5240085.JPG"/>
          <p:cNvPicPr/>
          <p:nvPr/>
        </p:nvPicPr>
        <p:blipFill>
          <a:blip r:embed="rId1"/>
          <a:stretch/>
        </p:blipFill>
        <p:spPr>
          <a:xfrm>
            <a:off x="1676520" y="14479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A type of mangrove tre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rop roots allow it to withstand the mangrove condi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ab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Content Placeholder 3" descr="P5240109.JPG"/>
          <p:cNvPicPr/>
          <p:nvPr/>
        </p:nvPicPr>
        <p:blipFill>
          <a:blip r:embed="rId1"/>
          <a:stretch/>
        </p:blipFill>
        <p:spPr>
          <a:xfrm>
            <a:off x="1295280" y="114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4"/>
          <p:cNvSpPr/>
          <p:nvPr/>
        </p:nvSpPr>
        <p:spPr>
          <a:xfrm>
            <a:off x="629280" y="11430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rabs are one of the most commonly seen creatures in Sungei Buloh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ever, as their colour is similar to that of their surroundings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y cannot be spotted easil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cal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4" descr="http://www.mangoverde.com/birdsound/images/00000010956.jpg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608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http://upload.wikimedia.org/wikipedia/commons/thumb/9/94/Lesswhistlingduck1.jpg/220px-Lesswhistlingduck1.jpg"/>
          <p:cNvPicPr/>
          <p:nvPr/>
        </p:nvPicPr>
        <p:blipFill>
          <a:blip r:embed="rId2"/>
          <a:stretch/>
        </p:blipFill>
        <p:spPr>
          <a:xfrm>
            <a:off x="3657600" y="4038480"/>
            <a:ext cx="3962520" cy="24130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0"/>
          <p:cNvSpPr/>
          <p:nvPr/>
        </p:nvSpPr>
        <p:spPr>
          <a:xfrm>
            <a:off x="4447080" y="3581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sser Whistling-Duc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11"/>
          <p:cNvSpPr/>
          <p:nvPr/>
        </p:nvSpPr>
        <p:spPr>
          <a:xfrm>
            <a:off x="1472760" y="838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d Jungle Fow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gratory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10" descr="http://upload.wikimedia.org/wikipedia/commons/thumb/f/f5/Calidris_ferruginea_%28Marek_Szczepanek%29.jpg/220px-Calidris_ferruginea_%28Marek_Szczepanek%29.jpg"/>
          <p:cNvPicPr/>
          <p:nvPr/>
        </p:nvPicPr>
        <p:blipFill>
          <a:blip r:embed="rId1"/>
          <a:stretch/>
        </p:blipFill>
        <p:spPr>
          <a:xfrm>
            <a:off x="1066680" y="1066680"/>
            <a:ext cx="3541680" cy="228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http://upload.wikimedia.org/wikipedia/en/thumb/a/a6/Marsh_sandpiper_small.jpg/220px-Marsh_sandpiper_small.jpg"/>
          <p:cNvPicPr/>
          <p:nvPr/>
        </p:nvPicPr>
        <p:blipFill>
          <a:blip r:embed="rId2"/>
          <a:stretch/>
        </p:blipFill>
        <p:spPr>
          <a:xfrm>
            <a:off x="4952880" y="11430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http://upload.wikimedia.org/wikipedia/commons/thumb/e/ea/Tringa_nebularia0.jpg/220px-Tringa_nebularia0.jpg"/>
          <p:cNvPicPr/>
          <p:nvPr/>
        </p:nvPicPr>
        <p:blipFill>
          <a:blip r:embed="rId3"/>
          <a:stretch/>
        </p:blipFill>
        <p:spPr>
          <a:xfrm>
            <a:off x="1295280" y="3657600"/>
            <a:ext cx="3810240" cy="28749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0"/>
          <p:cNvSpPr/>
          <p:nvPr/>
        </p:nvSpPr>
        <p:spPr>
          <a:xfrm>
            <a:off x="5055480" y="4114800"/>
            <a:ext cx="32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ockwise from bottom left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on Greenshank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lew Sandpiper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rsh Sandpipe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serv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odiversity in Singapore is preci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erve it for the future generatio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P5240029.JPG"/>
          <p:cNvPicPr/>
          <p:nvPr/>
        </p:nvPicPr>
        <p:blipFill>
          <a:blip r:embed="rId1"/>
          <a:stretch/>
        </p:blipFill>
        <p:spPr>
          <a:xfrm>
            <a:off x="0" y="2971800"/>
            <a:ext cx="4438800" cy="332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P5240096.JPG"/>
          <p:cNvPicPr/>
          <p:nvPr/>
        </p:nvPicPr>
        <p:blipFill>
          <a:blip r:embed="rId2"/>
          <a:stretch/>
        </p:blipFill>
        <p:spPr>
          <a:xfrm>
            <a:off x="4572000" y="295272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conserv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OP dumping rubbish into the ocea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Non bio-degradable rubbish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Leave nothing but footprints, take nothing but photograph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P5240098.JPG"/>
          <p:cNvPicPr/>
          <p:nvPr/>
        </p:nvPicPr>
        <p:blipFill>
          <a:blip r:embed="rId1"/>
          <a:srcRect l="9950" t="0" r="30349" b="31023"/>
          <a:stretch/>
        </p:blipFill>
        <p:spPr>
          <a:xfrm>
            <a:off x="76212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P5240055.JPG"/>
          <p:cNvPicPr/>
          <p:nvPr/>
        </p:nvPicPr>
        <p:blipFill>
          <a:blip r:embed="rId2"/>
          <a:srcRect l="8071" t="0" r="15293" b="39497"/>
          <a:stretch/>
        </p:blipFill>
        <p:spPr>
          <a:xfrm>
            <a:off x="762120" y="4952880"/>
            <a:ext cx="2895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5:35:42Z</dcterms:created>
  <dc:creator>David Boo Koh</dc:creator>
  <dc:description/>
  <dc:language>en-US</dc:language>
  <cp:lastModifiedBy>David Boo Koh</cp:lastModifiedBy>
  <dcterms:modified xsi:type="dcterms:W3CDTF">2010-05-25T10:24:06Z</dcterms:modified>
  <cp:revision>27</cp:revision>
  <dc:subject/>
  <dc:title>Slide 1</dc:title>
</cp:coreProperties>
</file>