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B41-E651-44CD-883F-61FAD989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843-6B30-4395-8EC1-D93A101A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7B217-1D3E-4AD7-83E8-10A263C0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EDDF9-9B09-435F-A07B-274FA7BF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35283-B958-43E1-ACBB-8C7D2C57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AA2BD-9832-40DC-A9D2-FA43910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03A7F-ACF4-4562-9556-398410E7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491C7-2AD1-4B53-BF6A-FC6C4124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3B0CC-E431-486E-9365-ACB29419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B91FE-2A5B-42D9-887A-2CA340AC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E8AA3-F45F-48FA-8FD3-6E951152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A0453-6EF1-4EA6-8D2D-8B10853C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098-0B42-470E-8F31-9D6DF40E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16074-52F6-4B43-BC5F-C3F480B9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E129E-5790-4007-8C4C-E0D6FC20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6283D-6FCF-4F4A-B0E6-0D82BCC4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4584B-79E0-421D-BC99-78988775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473A4-D9D3-46D3-A77A-03A51A5C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F115F-A2C2-46C0-85DC-861C3930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BAE99-8B4E-42E7-BFE2-66C49798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4970C-D1FA-46BE-871C-DDC2D994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376C6-D1B1-461D-AE91-6A51C8D3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71221-835B-42A2-9669-9B99FDAA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9C7-6A0B-422F-8C89-0C451246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EEADC-6E9D-4EAF-9E73-4DE66D91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1E9CC-4D9E-48FB-A99D-CD5AFC48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66665-B553-4B75-B4DB-40ACC54D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82287-D71B-4D32-9621-0A309498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7EDAB-5262-441A-B97E-4E6D1052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99175-D73E-4BCF-89CD-BF1564D6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A240B-2445-4896-815E-94ED31A9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B5425-E568-4822-8567-F7376C3E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9DCAD-EF41-47FA-8946-0A20171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2C7F2-85B6-42F2-B3E0-436266BB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7637-9B04-4BAF-B4D1-6B20B8DA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BBD21-1CEB-4D48-997D-AE20D6E9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B8D22-0F92-47A7-BC32-E7153D0C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AF2DF-09B5-4C9E-9FB5-803FA049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47CF9-76B3-4215-94CC-872455A0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BFF7C-6799-4DCB-B7B0-E46D0F9C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0EFC8-15E7-4C67-A3CC-11A69E7F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6FCD9-3639-434F-B886-877241C7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D23D8-7A97-466F-A446-5D8EE70A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476CA-3406-49AC-AF27-8F7807FC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61856-D1BF-4B95-9F02-C6050E4F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311E-BF48-4AF2-AA64-2BB2D1BE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99434-60DE-464D-8F4F-F8E87BA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5C7BF-681C-4B2E-BC23-62E74F3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5879B-3F08-46E9-89D3-A2142D2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37A4D-B60C-4524-B480-69DDAB3E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8BEFB-C892-4274-B49F-EDDF325C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1102-FF4E-4417-8887-98EEA8F2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B376-9081-482A-BF4A-6A200CFD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AC8B-8E58-45FF-BE1B-11885648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1808-4D19-43DE-BA32-1FD9A54D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7AEE-991F-423F-8458-869405C5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EA9-C39A-4D55-B360-F689C1AF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6B6F-D016-41EF-BF98-A3BBC08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A714-C7B8-4AE8-AC6A-38BDAB41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E220-20D3-47DE-8286-37FEE9AD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A4D5-78CE-48DA-A455-F9B6B2DD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D504-50BE-4A23-9566-8E4CEA9A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76C5-3491-46C4-B7FB-E853E9B7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ED57-2EF3-44B3-91FA-632D4990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A7A7-7AFD-4B1D-BC35-3518AAAB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5A9A-12E1-4CB9-9BD3-BAA5B627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F306-0CD7-4DE9-8C1D-0451535B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FEE-B046-49BB-A2C1-CEECDAF9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E60CD-0382-4F0D-BD4F-2CCA9735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BA8AA-91E3-42C1-B713-6592BAE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011F8-15DA-496E-8EE9-09C21796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2414-0D53-4032-91FC-AF34EBFF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20DA-1627-4366-9341-81256356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E74C8-AADF-48E8-84A7-D660B580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FE6E-CF9E-4A33-81BB-7045A070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F146F-62AF-416B-A4C9-981DE9AE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1D05-5C88-42A9-9205-3D7D12B9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CA08-752B-45CE-B87E-9744A908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931-1945-4C04-B44E-668C45E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E13EB-E95D-4B28-A735-E8C07BB6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E9D5-FA1B-4934-9540-9C0EA60F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1D376-490A-4B32-A734-AAE06F2C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F53FC-7085-4B49-9D56-0CDFB2BA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332C-8FED-4D7E-9B66-92C5CED7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D0669-4FCF-4907-96C2-F611350A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C4F74-90F4-4225-B788-FF70F427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77FFF-F4AD-473F-BA42-183B5EBD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9B3C-76A7-40C2-A255-CA3C3A8B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F3584-0465-4F37-BD31-726E6200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CC7-6B6D-4F20-A6FE-B3CC90C7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7C627-42B8-4E7D-8574-EBFD8810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B6B1-7B77-4808-9832-ED3E79D5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CA09B-BE48-40FC-8DFF-29E7061B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A6EC-D1F3-4F25-B830-8C12778E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E8D23-D48B-45E5-8C8E-D14BB6C8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AE15B-FAC1-41F5-8EC3-489BBB63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62B20-6773-400B-8796-7A2D544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AE641-0553-404F-AA71-2DE68DF0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0BA01-C65E-49E1-AD9C-1FF67BDD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CE32-FB10-47EF-BFD7-541955F4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8EC-E196-4835-B03B-06368E38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CA17C-73AF-4084-9F18-A0FF6DD8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0615-ECE2-4A49-A9E7-E60EFEF3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68B35-0C84-49EC-87A9-498D478E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E8298-4F89-4DC0-AC6E-D9F9B58D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EAC73-DB4E-4DE6-94C2-A7CC23E6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6FA2E-F01A-40AA-AEF7-8D4ADF43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330AA-FA62-46DD-BE96-159343ED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13068-348D-4E88-85A5-A2D21FF4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C71A8-E8AF-4B1A-AA97-CE926905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42EE4-EDFD-4178-9067-6E2B0793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501-4221-4916-B32A-E3715112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9E4F-4AF6-4658-B82C-71ED616C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33896-A50C-44DA-830B-396098FB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7D7AD-F4D2-4E1D-A2AF-4DA96BF1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EB11B-47BE-483F-8328-0B85294F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5EBC7-14EF-4CF1-85E4-2959E808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94D1D-BD4C-4CA1-B61C-0C6E9337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78FD-51F8-4462-817E-34AB0BE1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72F19-73BE-42F7-861A-C5A761CC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E52A5-0F7A-4229-BA36-9FDB33A3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19218-D6B4-4553-834A-5A543A38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E5A-CFFF-4AAB-B9E0-EA75718D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CC807-B8D3-4AC2-8902-8915EA6E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4E332-45A9-40A5-AFED-305B594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2909C-90E9-4931-B7DA-511059A5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88FD6-CE69-4038-A1E0-75B5510A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1E8A-E82D-49B0-AE2F-3FB77241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4A7FF-86A9-44F0-A652-7954171E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C4439-DB81-4E9B-A2E4-080ACF90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A78E9-DF10-4AE7-92CB-13803F82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7D271-0D1E-4AC7-9B64-F3BE0E02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5FB2E-79E2-4A0F-9C91-6B3017A8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7CD-21DA-4453-A46E-8255C45B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FDAC4-9BF7-45A1-BBD7-41091672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2B6E2-FC1D-4C92-964D-A3846E11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8FEF5-9B1E-46CC-AF92-45090EB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CEB7A-94D7-4D64-886F-CB624660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60551-9401-4530-91B9-96BD36B9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33E84-44BF-48E9-8FD1-E05F8653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2C4E2-0010-4A33-846C-82964EF1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74B9E-FD86-42CE-846B-482958C8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79B19-4FE8-462C-B286-3CE99735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D82B0-C633-4A89-A81A-625D81EE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76E9-62A1-4AEE-AA46-BF7CC8EFB5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9758-271A-43BA-BC97-13DE271F8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D96E-FA2B-47C0-85EE-52757ABFA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127C-AA31-4FF8-AADE-1E90C1CCF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9FD0-3202-4424-8E45-C1AA1C4D9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C829-443A-4115-9325-FDC9D87754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60ED-2518-43CC-8AB6-D27B25EBD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F797-C996-43F4-9CAE-A9B43DE20E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9909-7253-4533-A29A-E58D28AF2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C277-B034-4B79-8F91-7ADDC3B0F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6577-73B7-4D7A-82C4-097FC33236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0D60-3F33-4CD7-A082-844205807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Sungei Buloh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Rectangle 3" descr=""/>
          <p:cNvPicPr/>
          <p:nvPr/>
        </p:nvPicPr>
        <p:blipFill>
          <a:blip r:embed="rId1"/>
          <a:stretch/>
        </p:blipFill>
        <p:spPr>
          <a:xfrm>
            <a:off x="1743120" y="2792520"/>
            <a:ext cx="56689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nitor lizar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5240111.AVI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257800" cy="3943080"/>
          </a:xfrm>
          <a:prstGeom prst="rect">
            <a:avLst/>
          </a:prstGeom>
          <a:ln w="0">
            <a:noFill/>
          </a:ln>
        </p:spPr>
      </p:pic>
      <p:sp>
        <p:nvSpPr>
          <p:cNvPr id="610" name="TextBox 4"/>
          <p:cNvSpPr/>
          <p:nvPr/>
        </p:nvSpPr>
        <p:spPr>
          <a:xfrm>
            <a:off x="228600" y="18288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Related to the awesome komodo drag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Resides in Sungei Buloh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omic"/>
              </a:rPr>
              <a:t>mudskipp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2" name="Content Placeholder 3" descr="P5240106.JPG"/>
          <p:cNvPicPr/>
          <p:nvPr/>
        </p:nvPicPr>
        <p:blipFill>
          <a:blip r:embed="rId1"/>
          <a:stretch/>
        </p:blipFill>
        <p:spPr>
          <a:xfrm>
            <a:off x="1146240" y="1122480"/>
            <a:ext cx="7070760" cy="5297400"/>
          </a:xfrm>
          <a:prstGeom prst="rect">
            <a:avLst/>
          </a:prstGeom>
          <a:ln w="0">
            <a:noFill/>
          </a:ln>
        </p:spPr>
      </p:pic>
      <p:pic>
        <p:nvPicPr>
          <p:cNvPr id="613" name="P5240108.AVI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614" name="TextBox 6"/>
          <p:cNvSpPr/>
          <p:nvPr/>
        </p:nvSpPr>
        <p:spPr>
          <a:xfrm>
            <a:off x="457200" y="19810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The only fish that can move about on la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Breathes with gill chamber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ka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Content Placeholder 3" descr="P5240085.JPG"/>
          <p:cNvPicPr/>
          <p:nvPr/>
        </p:nvPicPr>
        <p:blipFill>
          <a:blip r:embed="rId1"/>
          <a:stretch/>
        </p:blipFill>
        <p:spPr>
          <a:xfrm>
            <a:off x="1676520" y="14479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17" name="TextBox 5"/>
          <p:cNvSpPr/>
          <p:nvPr/>
        </p:nvSpPr>
        <p:spPr>
          <a:xfrm>
            <a:off x="457200" y="19810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A type of mangrove tre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Prop roots allow it to withstand the mangrove condition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ab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Content Placeholder 3" descr="P5240109.JPG"/>
          <p:cNvPicPr/>
          <p:nvPr/>
        </p:nvPicPr>
        <p:blipFill>
          <a:blip r:embed="rId1"/>
          <a:stretch/>
        </p:blipFill>
        <p:spPr>
          <a:xfrm>
            <a:off x="1295280" y="1143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620" name="TextBox 4"/>
          <p:cNvSpPr/>
          <p:nvPr/>
        </p:nvSpPr>
        <p:spPr>
          <a:xfrm>
            <a:off x="629280" y="114300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rabs are one of the most commonly seen creatures in Sungei Buloh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owever, as their colour is similar to that of their surroundings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y cannot be spotted easil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ocal bi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Picture 4" descr="http://www.mangoverde.com/birdsound/images/00000010956.jpg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26085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http://upload.wikimedia.org/wikipedia/commons/thumb/9/94/Lesswhistlingduck1.jpg/220px-Lesswhistlingduck1.jpg"/>
          <p:cNvPicPr/>
          <p:nvPr/>
        </p:nvPicPr>
        <p:blipFill>
          <a:blip r:embed="rId2"/>
          <a:stretch/>
        </p:blipFill>
        <p:spPr>
          <a:xfrm>
            <a:off x="3657600" y="4038480"/>
            <a:ext cx="3962520" cy="24130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0"/>
          <p:cNvSpPr/>
          <p:nvPr/>
        </p:nvSpPr>
        <p:spPr>
          <a:xfrm>
            <a:off x="4447080" y="35812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sser Whistling-Duck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TextBox 11"/>
          <p:cNvSpPr/>
          <p:nvPr/>
        </p:nvSpPr>
        <p:spPr>
          <a:xfrm>
            <a:off x="1472760" y="83808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d Jungle Fow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igratory bi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10" descr="http://upload.wikimedia.org/wikipedia/commons/thumb/f/f5/Calidris_ferruginea_%28Marek_Szczepanek%29.jpg/220px-Calidris_ferruginea_%28Marek_Szczepanek%29.jpg"/>
          <p:cNvPicPr/>
          <p:nvPr/>
        </p:nvPicPr>
        <p:blipFill>
          <a:blip r:embed="rId1"/>
          <a:stretch/>
        </p:blipFill>
        <p:spPr>
          <a:xfrm>
            <a:off x="1066680" y="1066680"/>
            <a:ext cx="3541680" cy="2286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http://upload.wikimedia.org/wikipedia/en/thumb/a/a6/Marsh_sandpiper_small.jpg/220px-Marsh_sandpiper_small.jpg"/>
          <p:cNvPicPr/>
          <p:nvPr/>
        </p:nvPicPr>
        <p:blipFill>
          <a:blip r:embed="rId2"/>
          <a:stretch/>
        </p:blipFill>
        <p:spPr>
          <a:xfrm>
            <a:off x="4952880" y="11430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4" descr="http://upload.wikimedia.org/wikipedia/commons/thumb/e/ea/Tringa_nebularia0.jpg/220px-Tringa_nebularia0.jpg"/>
          <p:cNvPicPr/>
          <p:nvPr/>
        </p:nvPicPr>
        <p:blipFill>
          <a:blip r:embed="rId3"/>
          <a:stretch/>
        </p:blipFill>
        <p:spPr>
          <a:xfrm>
            <a:off x="1295280" y="3657600"/>
            <a:ext cx="3810240" cy="28749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10"/>
          <p:cNvSpPr/>
          <p:nvPr/>
        </p:nvSpPr>
        <p:spPr>
          <a:xfrm>
            <a:off x="5055480" y="4114800"/>
            <a:ext cx="32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ockwise from bottom left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mon Greenshank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urlew Sandpiper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arsh Sandpipe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serv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iodiversity in Singapore is preciou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serve it for the future generatio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3" descr="P5240029.JPG"/>
          <p:cNvPicPr/>
          <p:nvPr/>
        </p:nvPicPr>
        <p:blipFill>
          <a:blip r:embed="rId1"/>
          <a:stretch/>
        </p:blipFill>
        <p:spPr>
          <a:xfrm>
            <a:off x="0" y="2971800"/>
            <a:ext cx="4438800" cy="3328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P5240096.JPG"/>
          <p:cNvPicPr/>
          <p:nvPr/>
        </p:nvPicPr>
        <p:blipFill>
          <a:blip r:embed="rId2"/>
          <a:stretch/>
        </p:blipFill>
        <p:spPr>
          <a:xfrm>
            <a:off x="4572000" y="295272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to conserv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OP dumping rubbish into the ocea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&gt; Non bio-degradable rubbish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&gt; Leave nothing but footprints, take nothing but photograph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3" descr="P5240098.JPG"/>
          <p:cNvPicPr/>
          <p:nvPr/>
        </p:nvPicPr>
        <p:blipFill>
          <a:blip r:embed="rId1"/>
          <a:srcRect l="9950" t="0" r="30349" b="31023"/>
          <a:stretch/>
        </p:blipFill>
        <p:spPr>
          <a:xfrm>
            <a:off x="762120" y="28954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P5240055.JPG"/>
          <p:cNvPicPr/>
          <p:nvPr/>
        </p:nvPicPr>
        <p:blipFill>
          <a:blip r:embed="rId2"/>
          <a:srcRect l="8071" t="0" r="15293" b="39497"/>
          <a:stretch/>
        </p:blipFill>
        <p:spPr>
          <a:xfrm>
            <a:off x="762120" y="4952880"/>
            <a:ext cx="28954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5:35:42Z</dcterms:created>
  <dc:creator>David Boo Koh</dc:creator>
  <dc:description/>
  <dc:language>en-US</dc:language>
  <cp:lastModifiedBy>David Boo Koh</cp:lastModifiedBy>
  <dcterms:modified xsi:type="dcterms:W3CDTF">2010-05-25T10:24:06Z</dcterms:modified>
  <cp:revision>27</cp:revision>
  <dc:subject/>
  <dc:title>Slide 1</dc:title>
</cp:coreProperties>
</file>